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7.png" ContentType="image/png"/>
  <Override PartName="/ppt/media/image25.png" ContentType="image/png"/>
  <Override PartName="/ppt/media/image62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1.png" ContentType="image/png"/>
  <Override PartName="/ppt/media/image5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A2B-27C3-4B87-963F-6BF5AA0A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630-73C8-46D0-93CD-F454D317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C52-CB6D-4656-8BAA-1A35B0FD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0109-C6A4-460A-A84E-A801E030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720A-AF48-4B96-BB4A-47A3E073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4B10-CF92-4BEB-ADEC-D1DCD8F3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8D93-EAE0-40E2-860F-9FCFC734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CE0E-710A-474A-ACDC-9C290C0B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F66E-E046-4E43-B0A8-0030B2BB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79C9-6B70-4BFF-A220-DFC89F9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B976-6A7A-4264-ADEF-C95DD402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F459-43C2-4655-B409-2933B3FF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93EA-69F7-4452-A26D-48C9D50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4C88-09FD-45AC-BBFD-3ABA936B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AD8E-1C9A-4C92-AAE2-5186B6E0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8526-B708-405B-B73F-6CD4E36B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9DDA-DD74-43F1-A404-682B7F84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EE167-31E1-4EB5-AFD7-D053CA2B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80B7B-6BE1-48FA-A36D-539590B6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F4E29-9BBF-4637-A958-A130F426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C90C-6FCF-44B5-95A2-698896DB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A915C-7681-4376-BDAF-8C56F6ED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243-9F75-470D-B7FF-DC4BC181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AD13-E1F9-4360-9522-66708FD8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3D85-313B-4A24-A55E-DE2C41E7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966B5-1EA1-4DAE-AC91-5065EA2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7C203-26C6-4098-BE62-72A0275F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F7F18-A1E7-4282-B9AE-027A7D0B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F955F-22A7-4AD8-9DB2-20258A24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09D8-1FCC-4039-8E62-B92F99B8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71D59-C497-41A1-B242-CFCBCE12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FF5A7-E08C-424A-BF27-B65D1E3D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B09A-ED07-4B9B-ACE8-0B170F4A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A60-FE98-4340-98BA-3968DBA4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6822D-E8DC-4CF3-B3FE-DF2C19FC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36DAF-B7F1-4D68-A1DE-7DAC4D24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E25F2-E9BB-4FE8-9CB7-3C444C20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D1FD-18F2-4CDC-BFEB-4B04B5E3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14928-C53B-4998-9E2C-C285B431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9DA82-15F7-45FD-A58C-6AD9B3DF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D8EDF-DFE6-484C-94A3-8A41A65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49A1B-B37B-4776-A855-989B6798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7A234-8B51-48AA-A971-8DAD9EB3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4F9C3-3346-42E5-9697-F1E75ADC7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B1E-280E-43E0-8E10-BA68B2EB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27273-9EFA-4501-8DB9-740879FE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31D9D-3C45-4F38-A9B2-1C80D4D1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2A40-ADBD-4EB7-9864-9608A7E0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FE69-9DDF-4159-922C-8E02F1A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9873-401C-47DF-AE00-A73E161C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EC80-8F33-4652-8AAA-5DF39CF2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4483-0AD7-4239-8E16-72817E19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2B89-95D6-4BD7-A669-2286A3CE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B4774-CAFC-4149-9B1E-C784F05F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D41B9-1B31-489A-99CF-1E9D873F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5F75-E643-4812-993B-6203882C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6212-B18C-446C-9095-9BE42AB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40C3-65F7-4191-B20F-A4BCC8D7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2F603-2A1B-4925-9327-A37D4166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78E8A-F7EF-4016-8613-81FDF2D5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2D47-9513-465E-959E-A48F2E3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6E46B-1599-4FC0-B735-8B395E5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25B0-2115-4AEE-85C1-61AABA9E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CA302-500E-4940-82B0-80B73038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00E72-622D-4461-9382-51DE09BF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57CF9-F467-43BB-A802-9E8219E9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D716-6157-434F-B15C-77DF73DE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0E465-FA8B-4803-98B0-23036153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F040-3D3E-4148-A3B9-83FFF5EA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A2E2C-BDD1-40DD-9926-C532BAB7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B6A1E-1D60-4D8F-8411-83344C9E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1A59-57EF-4C5E-9B16-CA87E061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4CB1F-8626-46E2-A454-F2D44D3C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12E56-D5B7-455E-AFBC-6485BAFB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8D160-892E-4340-AC1B-44EA9D7A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D61E7-0054-4FB5-8FE1-5574C9EA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32315-94A8-4B55-9DBA-B461B962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C11E-3490-4EA3-B1D1-8F56A81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EDCE9-247F-4862-ACF7-5D932D56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D93C-AF7A-4D43-8B50-F7B7DA9A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80AC-C10C-4207-AB06-3DF25E8F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E7758-7A40-4A1A-B0AB-C9A20614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9DB58-9E7B-478F-AF34-8A21E614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9245-E5AA-4D64-BFD9-0752DFF5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6187F-54BE-4E83-A868-E714659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1D065-B545-439F-8AE6-7858E3BB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A04EC-0BA0-4DDE-AAE6-84FDBC44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8B2F-E073-49B7-9926-B47BABB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AB78-5B8D-42C4-A8E1-5104D2CA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4B15-E23C-4D4D-AF8F-5C6275A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7C321-D1A8-4E61-8B28-F5BEF47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B9E5F-ED4E-4F01-8D33-0DB5277B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648DE-0863-4A15-831B-F0FCA42D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0382-0FAD-461E-8CE3-A7A90242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42E35-82AB-48BD-901C-E46484CE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84D25-4AF5-49E4-9CC6-161820F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56D1-D58D-41DD-B365-59B60F90B0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66E5-35C6-496E-A35F-50A00817C14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476-1758-4EF4-BE5F-CA0DE04C0ED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C683-E813-4B55-A747-CC96E520F53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1304-6F17-463F-B54D-B2083833D3B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CD9A-BD60-4B80-97A7-506A5AF06B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9883-41A5-4EE5-A470-9A0CA068A29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34DA-8EA4-4C46-BF21-A89089253F4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2"/>
          <a:stretch/>
        </p:blipFill>
        <p:spPr>
          <a:xfrm>
            <a:off x="-12600" y="4680"/>
            <a:ext cx="9169200" cy="685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3"/>
          <a:stretch/>
        </p:blipFill>
        <p:spPr>
          <a:xfrm>
            <a:off x="1876320" y="2643120"/>
            <a:ext cx="5389560" cy="1579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4"/>
          <a:stretch/>
        </p:blipFill>
        <p:spPr>
          <a:xfrm>
            <a:off x="2200320" y="2793960"/>
            <a:ext cx="4743360" cy="1279440"/>
          </a:xfrm>
          <a:prstGeom prst="rect">
            <a:avLst/>
          </a:prstGeom>
          <a:ln w="0">
            <a:noFill/>
          </a:ln>
        </p:spPr>
      </p:pic>
      <p:sp>
        <p:nvSpPr>
          <p:cNvPr id="375" name="CasellaDiTesto 6"/>
          <p:cNvSpPr/>
          <p:nvPr/>
        </p:nvSpPr>
        <p:spPr>
          <a:xfrm>
            <a:off x="1523880" y="5638680"/>
            <a:ext cx="6324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Lucida Sans Unicode"/>
              </a:rPr>
              <a:t>Upskilling Europe Toolkits | Toolkit 01:  </a:t>
            </a:r>
            <a:r>
              <a:rPr b="0" lang="it-IT" sz="1400" spc="-1" strike="noStrike">
                <a:solidFill>
                  <a:srgbClr val="ffffff"/>
                </a:solidFill>
                <a:latin typeface="Lucida Sans Unicode"/>
              </a:rPr>
              <a:t>Social Entrepreneu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Lucida Sans Unicode"/>
              </a:rPr>
              <a:t>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4"/>
          <p:cNvSpPr/>
          <p:nvPr/>
        </p:nvSpPr>
        <p:spPr>
          <a:xfrm>
            <a:off x="380880" y="16765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ou’ve got questions, we’ve got answ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2438280" y="3886200"/>
            <a:ext cx="43912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04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ave money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Live bet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5715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2279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ime to fl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omething t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smile abou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aking care of bus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2"/>
          <a:stretch/>
        </p:blipFill>
        <p:spPr>
          <a:xfrm>
            <a:off x="2895480" y="3733920"/>
            <a:ext cx="31719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o ru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Just righ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2438280" y="3809880"/>
            <a:ext cx="422928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n't leave home without 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327672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380880" y="167652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Passion for the ro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3429000" y="32767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hen it rains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it pou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4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31813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relentless pursuit of perfe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22287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700" spc="-1" strike="noStrike">
              <a:solidFill>
                <a:srgbClr val="4e5b6f"/>
              </a:solidFill>
              <a:latin typeface="Lucida Sans Unicode"/>
            </a:endParaRPr>
          </a:p>
        </p:txBody>
      </p:sp>
      <p:pic>
        <p:nvPicPr>
          <p:cNvPr id="378" name="Picture 3" descr="Great Group Games Logo.jpg"/>
          <p:cNvPicPr/>
          <p:nvPr/>
        </p:nvPicPr>
        <p:blipFill>
          <a:blip r:embed="rId2"/>
          <a:stretch/>
        </p:blipFill>
        <p:spPr>
          <a:xfrm>
            <a:off x="5791320" y="228600"/>
            <a:ext cx="31986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big chee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"/>
          <p:cNvPicPr/>
          <p:nvPr/>
        </p:nvPicPr>
        <p:blipFill>
          <a:blip r:embed="rId2"/>
          <a:stretch/>
        </p:blipFill>
        <p:spPr>
          <a:xfrm>
            <a:off x="3429000" y="373392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4"/>
          <p:cNvSpPr/>
          <p:nvPr/>
        </p:nvSpPr>
        <p:spPr>
          <a:xfrm>
            <a:off x="380880" y="167652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e’re behind you every step of the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3048120" y="3886200"/>
            <a:ext cx="300024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e’re cooking n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714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0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American by birth. Rebel by choi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3276720" y="38862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00 % juice f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100% ki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523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6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astes so good cats ask for it by 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3429000" y="3809880"/>
            <a:ext cx="2152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Ultimate Driving Mach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18381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452" name="TextBox 4"/>
          <p:cNvSpPr/>
          <p:nvPr/>
        </p:nvSpPr>
        <p:spPr>
          <a:xfrm>
            <a:off x="457200" y="18288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at was eas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396252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0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Have it your w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3505320" y="39625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457200" y="18288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You’re in good ha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3200400" y="3962520"/>
            <a:ext cx="248616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457200" y="228600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Finger-lickin’ goo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89" name="TextBox 4"/>
          <p:cNvSpPr/>
          <p:nvPr/>
        </p:nvSpPr>
        <p:spPr>
          <a:xfrm>
            <a:off x="380880" y="198108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art of perform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2"/>
          <a:stretch/>
        </p:blipFill>
        <p:spPr>
          <a:xfrm>
            <a:off x="3276720" y="3962520"/>
            <a:ext cx="25146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380880" y="16002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Kid-Tested,</a:t>
            </a:r>
            <a:br>
              <a:rPr sz="6000"/>
            </a:b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Mother-Approved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3733920" y="3962520"/>
            <a:ext cx="1562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380880" y="19810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Wake up and dr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3352680" y="3505320"/>
            <a:ext cx="205740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762120" y="0"/>
            <a:ext cx="8083440" cy="1908000"/>
          </a:xfrm>
          <a:prstGeom prst="rect">
            <a:avLst/>
          </a:prstGeom>
          <a:ln w="0">
            <a:noFill/>
          </a:ln>
        </p:spPr>
      </p:pic>
      <p:sp>
        <p:nvSpPr>
          <p:cNvPr id="398" name="TextBox 4"/>
          <p:cNvSpPr/>
          <p:nvPr/>
        </p:nvSpPr>
        <p:spPr>
          <a:xfrm>
            <a:off x="380880" y="19810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The mark of a m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3505320" y="350532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8:43:14Z</dcterms:created>
  <dc:creator>Shogun</dc:creator>
  <dc:description/>
  <dc:language>en-US</dc:language>
  <cp:lastModifiedBy>electronio</cp:lastModifiedBy>
  <dcterms:modified xsi:type="dcterms:W3CDTF">2016-06-03T10:39:18Z</dcterms:modified>
  <cp:revision>45</cp:revision>
  <dc:subject/>
  <dc:title>Battle of the Sexes: Zoom In Game</dc:title>
</cp:coreProperties>
</file>